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176745"/>
        <c:axId val="18935247"/>
      </c:barChart>
      <c:catAx>
        <c:axId val="901767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35247"/>
        <c:crosses val="autoZero"/>
        <c:auto val="1"/>
        <c:lblAlgn val="ctr"/>
        <c:lblOffset val="100"/>
        <c:noMultiLvlLbl val="0"/>
      </c:catAx>
      <c:valAx>
        <c:axId val="189352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767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4E41-69FF-43B1-A158-7AD178B97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CA7-53B2-4805-9EAB-91A9F670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660-7AD2-426E-B032-0B143C46B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160F-C079-4039-9C90-9FEEA97BE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8DD8-A698-4FF3-AE95-2F80E085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E48-1EB1-406B-9BF2-E511765C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3BFF-FDBB-4F10-9DC6-22D49836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F44-BEB2-4855-B131-160C679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D31D-27F2-4A9D-B233-1F1E82BD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27B-ECF8-4966-AF98-9B0F05C4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C96-609C-4C8F-B4A1-6E05048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A85-9EFA-46BC-BBF2-A39D55CA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D66C1-36C5-4815-81E8-154888515E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