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223514"/>
        <c:axId val="85199017"/>
      </c:barChart>
      <c:catAx>
        <c:axId val="192235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199017"/>
        <c:crosses val="autoZero"/>
        <c:auto val="1"/>
        <c:lblAlgn val="ctr"/>
        <c:lblOffset val="100"/>
        <c:noMultiLvlLbl val="0"/>
      </c:catAx>
      <c:valAx>
        <c:axId val="851990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2235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8557-30F2-4F66-A9E5-4111B65D3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10E2-9777-4130-B447-14FDDDCC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8604-2497-452F-848E-03E5F43B4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B1E8-97EB-4000-BF3C-5D19CAA62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8678-C421-46CD-8AAB-C48C085B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E355-D151-4DCF-AF22-063D52FD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8706-CF94-465B-ABF6-CC293BDF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B522-A335-44FC-ADDB-5F2707B3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889E-EBCD-4FF7-97E6-D1B799AF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F798-6D1B-471B-855E-80EFEEEA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D28D-23D3-4300-808D-A87BC13C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3AC1-EBA5-44D1-A673-505CA33D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7F3E0-1EC9-43E8-A68C-F04A504BDF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