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69912"/>
        <c:axId val="19174292"/>
      </c:barChart>
      <c:catAx>
        <c:axId val="17069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74292"/>
        <c:crosses val="autoZero"/>
        <c:auto val="1"/>
        <c:lblAlgn val="ctr"/>
        <c:lblOffset val="100"/>
        <c:noMultiLvlLbl val="0"/>
      </c:catAx>
      <c:valAx>
        <c:axId val="19174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69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ABF-707E-447C-9671-D2E17F91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2F91-C2C1-4B5D-9D84-F5167196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349-B271-4608-B2EC-77C0C3BA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30B-D593-455E-9DC2-0FB818DCF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A7A-5A84-4713-B5ED-266E0B0B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32C-8A93-4037-A4BD-D7816F98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1EF-887E-4134-BAA1-4DA067F9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F25-40B3-4F71-852E-DCB730FD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37E-3231-4816-A511-9C21FF0C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983-F6C7-48BC-B983-FA5A4DA2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BBA-654A-4BF8-8120-8CA0D0E3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B8AF-511D-4F33-8A44-3B051F36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48D03-A10F-4A70-97D1-75701FDF90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