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2242"/>
        <c:axId val="89491155"/>
      </c:barChart>
      <c:catAx>
        <c:axId val="7312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91155"/>
        <c:crosses val="autoZero"/>
        <c:auto val="1"/>
        <c:lblAlgn val="ctr"/>
        <c:lblOffset val="100"/>
        <c:noMultiLvlLbl val="0"/>
      </c:catAx>
      <c:valAx>
        <c:axId val="89491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2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191-7A27-4D5D-9C4D-41963B19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E9C-F6F7-4B56-AA47-D93F210A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467-5E26-4C79-BCEF-641FAA20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0CA-6E8F-458F-8D93-2D46E1BA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B1F-4B82-4772-80D6-C225B993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E32-2730-4CF9-98A1-3EFD4275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7E9-416A-4560-A7C6-3FC26CCD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472-89B3-40ED-A00C-17064CD9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4F0-C1BA-4285-9051-CA85338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738-9536-4C1E-B0A8-D524AD3D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D21-ADF5-414D-8F47-8B9720A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9A3-D643-480E-A701-4BF9FD3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215B7-ED8C-4DE9-8ADD-44A3FE0942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