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76241"/>
        <c:axId val="92795578"/>
      </c:barChart>
      <c:catAx>
        <c:axId val="830762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95578"/>
        <c:crosses val="autoZero"/>
        <c:auto val="1"/>
        <c:lblAlgn val="ctr"/>
        <c:lblOffset val="100"/>
        <c:noMultiLvlLbl val="0"/>
      </c:catAx>
      <c:valAx>
        <c:axId val="92795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762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F57-D9C3-492B-AB06-559F001DC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CB5-597F-4E3B-AE94-CEAED09FE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BF11-9E72-44FA-BAA5-6EE2BE90F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229B-B584-42B3-A5B3-758F28AF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5A2D-1BDD-4353-BBBC-A5035671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367-BE13-4B0B-AFD1-7B053A35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839-E218-4202-AFA3-ED2633F7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633-4D73-40A9-9D79-FB5D16E0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EA4-826F-445D-AD92-75648E4A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003-5A90-4752-89BA-11F74189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F9D-A74F-42B0-96F1-C920359F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4A4A-49E4-4E06-B21D-7ADB9B34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FB995-5550-4D3D-95DB-4C0B79855E0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