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68273"/>
        <c:axId val="58832569"/>
      </c:barChart>
      <c:catAx>
        <c:axId val="31268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32569"/>
        <c:crosses val="autoZero"/>
        <c:auto val="1"/>
        <c:lblAlgn val="ctr"/>
        <c:lblOffset val="100"/>
        <c:noMultiLvlLbl val="0"/>
      </c:catAx>
      <c:valAx>
        <c:axId val="58832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68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E11-D24C-472C-8956-4E9FBB9A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90F-89A6-4351-BD28-797EBAD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C8F-288B-41F8-97E4-6B0AACF9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A0A-1A39-42AC-9C89-CDBFC653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3D4-BA74-4751-ACF5-E2D8F0A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EE0-7F8D-4CA3-BFFB-4D585C1C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A83-499A-499B-93DA-3A8BF567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BDD-B74E-4C5D-983E-6C5EAA22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250-45C2-479B-A51E-DB3FCFE9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6F5-0B78-4DD9-B4EF-6871993C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86F-27EB-44CC-BF5E-28A9DF5E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EC6-AC58-4CC5-9974-E06DAE1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FEAC6-75FC-43BE-9F5D-B1B9FDAE70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