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20267"/>
        <c:axId val="73365523"/>
      </c:barChart>
      <c:catAx>
        <c:axId val="1920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65523"/>
        <c:crosses val="autoZero"/>
        <c:auto val="1"/>
        <c:lblAlgn val="ctr"/>
        <c:lblOffset val="100"/>
        <c:noMultiLvlLbl val="0"/>
      </c:catAx>
      <c:valAx>
        <c:axId val="73365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0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CE3-C6FC-41AD-90C9-12317DE1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9C52-3C6E-4295-B029-DEE9B563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B43-C833-4CA8-BB80-AC466148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D1E-F416-452F-8233-139B2FFA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0E2-30A9-4FC9-ABE2-D1054475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9CF-0B6A-41A4-9350-D0742FED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DEB-3E8A-43DC-B97F-7BEC3F12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44A-F193-4670-9FE8-ADA0D3AC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593-BDB8-450E-B01C-47E9DE47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1900-AD24-439B-968D-D0AF2801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9BF-AED8-4CB8-B012-07B9279F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5F3-50C1-4A93-9AFC-64D420C4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E82CA-F212-4C19-B985-0718A6D80C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