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58797"/>
        <c:axId val="2312866"/>
      </c:barChart>
      <c:catAx>
        <c:axId val="8558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2866"/>
        <c:crosses val="autoZero"/>
        <c:auto val="1"/>
        <c:lblAlgn val="ctr"/>
        <c:lblOffset val="100"/>
        <c:noMultiLvlLbl val="0"/>
      </c:catAx>
      <c:valAx>
        <c:axId val="23128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8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57A-A92A-4BC4-A0B2-43042FBAA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427-2422-4F3C-BA3F-FAFC12DC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079-3127-468A-88EA-CED288760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292E-6AFF-42AB-996B-A5E19DF0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DBEE-CF63-4F3E-AA27-363BEF64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9D17-92D3-497C-A3D1-515B4AA1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2E6-5EE4-4454-8E6E-28D1224D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C84-8A6E-4F99-AC89-E422BEDF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A97-9399-4003-B945-BAFA15A4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910F-3571-4E59-842C-A41D42B2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EC75-56DF-403E-949F-18A3F014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ECB8-7657-4566-88ED-B377B3E3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70EEA-7A3F-4987-B1B4-E613001EB5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