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36473"/>
        <c:axId val="55123375"/>
      </c:barChart>
      <c:catAx>
        <c:axId val="92436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23375"/>
        <c:crosses val="autoZero"/>
        <c:auto val="1"/>
        <c:lblAlgn val="ctr"/>
        <c:lblOffset val="100"/>
        <c:noMultiLvlLbl val="0"/>
      </c:catAx>
      <c:valAx>
        <c:axId val="55123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36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64E-986D-4483-9884-38A30C25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E53-56C7-4B41-8CFB-7163B245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E84-A043-488F-A4DB-532DBAD8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9E4-68CB-4281-9520-10B9853E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D82-7CF5-4D1A-8926-D70C7ED9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C0B-5520-4B74-A391-8189D954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108-5184-4914-B870-AB51C938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37B-635D-45B3-A1A6-57F1C35E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C61-33D9-43BB-8247-8A34AF0F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0E4-8C01-438C-90EE-23B68362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597-1237-4DBF-A5BF-F0F908AB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B54-BDC2-4661-9858-E1066CFA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183B3-9DEA-4AA9-893E-970EE3E371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