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90386"/>
        <c:axId val="84534210"/>
      </c:barChart>
      <c:catAx>
        <c:axId val="76590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34210"/>
        <c:crosses val="autoZero"/>
        <c:auto val="1"/>
        <c:lblAlgn val="ctr"/>
        <c:lblOffset val="100"/>
        <c:noMultiLvlLbl val="0"/>
      </c:catAx>
      <c:valAx>
        <c:axId val="8453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0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704-C53C-4E95-8502-4D2031E7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FE3-66E2-46EE-BFAF-09D6715E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11C-9477-4E45-9FC1-6DD73D2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477-762C-49EB-B697-DA4FE40A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40F-A65B-49C2-AB18-9424FEC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C01-22B4-497C-A2B1-AF465AA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A98-F462-45FB-A89D-FE42C55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31-45FC-4854-A2F3-C29DBCC0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13A-AB85-4F7D-81DE-04CF50D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CCE-1EBE-4DE0-A6EE-8017408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87A-7C88-4B59-B176-02EC6CE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6A6-DD95-41E1-B56D-AC78527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308D4-AD69-4F73-B006-EA641B2CC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