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47965"/>
        <c:axId val="1186052"/>
      </c:barChart>
      <c:catAx>
        <c:axId val="28347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6052"/>
        <c:crosses val="autoZero"/>
        <c:auto val="1"/>
        <c:lblAlgn val="ctr"/>
        <c:lblOffset val="100"/>
        <c:noMultiLvlLbl val="0"/>
      </c:catAx>
      <c:valAx>
        <c:axId val="1186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47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21C-97DE-4F1D-BC17-FB837620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FB3-DA60-4AFA-B051-F6CE9B9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70D-1EC7-439F-BF6D-CD81E531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ED9-96B1-4984-AEFE-B56E708E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A44-DC67-4E20-8EEC-031B4717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44A-7B9B-42FC-895A-45472A1E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185-416F-4EFB-B902-A05A8A42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B4C-DAA4-4DA2-9778-B0F3C07E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96D-AC0A-464D-8A7C-A874EA2F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BF1-59E0-4754-A9F4-500DCADA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8B9-1D3C-4F97-B60F-11234F40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CA0-A1A8-4764-9B2E-F747198B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715A3-7961-4000-A2B8-FF6495CFF5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