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8516"/>
        <c:axId val="69799009"/>
      </c:barChart>
      <c:catAx>
        <c:axId val="306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9009"/>
        <c:crosses val="autoZero"/>
        <c:auto val="1"/>
        <c:lblAlgn val="ctr"/>
        <c:lblOffset val="100"/>
        <c:noMultiLvlLbl val="0"/>
      </c:catAx>
      <c:valAx>
        <c:axId val="69799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BD0-5D7A-4731-9228-47DF920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7E0-638A-4B37-8B94-9737DE6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E06-8D8C-43DD-9CE9-C88D017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6E8-9A73-414C-82E4-0DA46B4C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977-B140-4592-8B95-1C46D714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B7-485E-48E5-BF13-AF1FB44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011-0E5F-4927-821B-102DF36F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005-DFA7-4034-88FB-2AC7678B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56A-C300-4AA3-AB0E-63D3CC6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F2F-131A-4BB3-BCEC-90A0648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B96-1211-480E-A6C1-44BE076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4DF-D702-407C-B505-3706C89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0EC1B-1846-443A-B678-D3AC81359C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