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20807"/>
        <c:axId val="1371203"/>
      </c:barChart>
      <c:catAx>
        <c:axId val="66420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1203"/>
        <c:crosses val="autoZero"/>
        <c:auto val="1"/>
        <c:lblAlgn val="ctr"/>
        <c:lblOffset val="100"/>
        <c:noMultiLvlLbl val="0"/>
      </c:catAx>
      <c:valAx>
        <c:axId val="1371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20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A41-02E2-4F9B-9539-F70EECAF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41C-3FB8-4677-BFE5-B800DFAD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0E9-F125-47E7-9D27-3B399352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1CB-A312-4077-A5E8-D9C95C59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276-B06E-4F89-A1FD-498CD7D5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419-EB4A-488E-A3B7-79C52F55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B8B-AC97-4086-8F51-B9C4955E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C99-B0A0-44CF-A912-40D71CD7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222-6A91-4613-9A9F-8BDC75E8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7C0-60F7-4355-989D-96F941D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A9B-DA02-4A76-A998-5DEFC8AE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976-321C-45B1-B97B-58610626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9FB98-5231-4330-BAE4-A208E24FBE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