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63312"/>
        <c:axId val="48932199"/>
      </c:barChart>
      <c:catAx>
        <c:axId val="70763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32199"/>
        <c:crosses val="autoZero"/>
        <c:auto val="1"/>
        <c:lblAlgn val="ctr"/>
        <c:lblOffset val="100"/>
        <c:noMultiLvlLbl val="0"/>
      </c:catAx>
      <c:valAx>
        <c:axId val="48932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63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B8C-4E81-4682-A350-5AE25D42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3A8-C306-4E32-8728-0F8D4395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837-A91D-44B9-A65E-34326907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2E3-617B-4703-AC98-6F204E68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B76-9C92-46F4-8A2E-EE66BED9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684-6680-4754-8853-754C826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10F-5E20-4D5C-A272-7D41A51A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512-BC71-4A4B-8BDC-9AFE5B18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1EB-509E-49D8-9375-97A8F459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227-DAE1-4CB4-B952-6DD14299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98E-AC46-4B1C-81F5-E1EFA80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0C2-E5F4-47E0-8465-7A8EAF7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81186-EA47-4DF4-A03C-430B5707C8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