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31724"/>
        <c:axId val="15609688"/>
      </c:barChart>
      <c:catAx>
        <c:axId val="56431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09688"/>
        <c:crosses val="autoZero"/>
        <c:auto val="1"/>
        <c:lblAlgn val="ctr"/>
        <c:lblOffset val="100"/>
        <c:noMultiLvlLbl val="0"/>
      </c:catAx>
      <c:valAx>
        <c:axId val="15609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31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772-0085-4EED-B54D-46D9AC4B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5E7-7D83-43E4-8335-6845BD49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8D7-6A3C-4FA9-AD06-6C7A861A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3AB-F64C-4D6B-B6E2-C618320E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DEF-F886-4C93-AEFC-ABF2660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7F1-5F1F-4DC4-88F3-AA34ED8D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CB5-3233-4AFF-B0FE-84D130A0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C7C-2488-40FE-A728-72BC1AE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9FE-EB81-464C-9C2F-1BF35A71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41E-677B-4B8F-9301-E357C022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EA3-0E72-42A7-A4CD-FF3B0087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995-5CBE-4F89-8524-B81C90A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A8B80-A7EC-4696-B0C9-75C847381E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