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72628"/>
        <c:axId val="16080756"/>
      </c:barChart>
      <c:catAx>
        <c:axId val="15726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80756"/>
        <c:crosses val="autoZero"/>
        <c:auto val="1"/>
        <c:lblAlgn val="ctr"/>
        <c:lblOffset val="100"/>
        <c:noMultiLvlLbl val="0"/>
      </c:catAx>
      <c:valAx>
        <c:axId val="160807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26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EE88-91A4-4D6E-BB48-369A3ED7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5B33-4260-49FF-B828-E3F667AC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CE86-1216-4321-8060-92DBB8E50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5964-2CEA-4F22-845E-71EF38B5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4B45-14A4-41F7-A7C6-B3808471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1FF8-8BD7-4C3C-AE4D-343C342B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4C06-6939-43FE-AC84-D7A2A66F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EEAD-3546-4EFA-8742-54A1F112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9B8F-849C-4FA3-9C06-7E14511B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2DC6-BD3D-494C-B1FD-1CFA9D3B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3F79-355B-40AF-9C7F-AB96F62B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185C-F8F0-43BA-8937-A3EF5A17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919B2-57E9-440E-B6D5-FF5F851EF0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