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95814"/>
        <c:axId val="26855449"/>
      </c:barChart>
      <c:catAx>
        <c:axId val="20395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55449"/>
        <c:crosses val="autoZero"/>
        <c:auto val="1"/>
        <c:lblAlgn val="ctr"/>
        <c:lblOffset val="100"/>
        <c:noMultiLvlLbl val="0"/>
      </c:catAx>
      <c:valAx>
        <c:axId val="26855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95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5E0-3F33-4098-9A5B-F4CFF02D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CCEE-38D5-47F8-B605-8958F208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B1B-E8E0-45AC-BEE2-C9DB7124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BBE-B482-44F6-9AF1-54CBE28C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98B-84A3-46D6-9B9A-960F726F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D9F-8601-466C-8957-6194FB9F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A88-1294-43FD-A734-70B2FA0B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C69-09A2-4717-8A2D-4D0925B9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EBF-B360-4204-B301-EE0D2A48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BDA-CFB4-4B6C-80B0-924772FC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A7C4-EBAB-4D6F-B079-0CCE4EE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A98-FB27-44EA-AC0C-EC4CA08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3EF12-2E56-44D6-9CEB-EAFC1E70C0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