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14965"/>
        <c:axId val="25641704"/>
      </c:barChart>
      <c:catAx>
        <c:axId val="57314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41704"/>
        <c:crosses val="autoZero"/>
        <c:auto val="1"/>
        <c:lblAlgn val="ctr"/>
        <c:lblOffset val="100"/>
        <c:noMultiLvlLbl val="0"/>
      </c:catAx>
      <c:valAx>
        <c:axId val="25641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14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EF3-2BAC-48CE-8ED8-93A3CD5D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28E-1FEF-4863-938C-4784EA63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607-89A4-431B-94CB-0E897D61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371-8A9A-4CC5-B577-72AEDE69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E9C-6E12-45FF-8CF6-C296D101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46B-2562-4FC8-A0AB-35BC0BA1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349-6789-4948-9503-32677127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589-FE04-49C3-9562-FA6880D1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2A0-B777-444A-AAF0-98E88241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D1B-F90D-4961-A09A-CB33307B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B05-26FE-4C2F-B811-4ACF8B4B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03E-EA60-4FB0-A2B9-E72B3F6B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99C37-6AE5-4106-BBC5-289C87FD5C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