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11692"/>
        <c:axId val="69918121"/>
      </c:barChart>
      <c:catAx>
        <c:axId val="27811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8121"/>
        <c:crosses val="autoZero"/>
        <c:auto val="1"/>
        <c:lblAlgn val="ctr"/>
        <c:lblOffset val="100"/>
        <c:noMultiLvlLbl val="0"/>
      </c:catAx>
      <c:valAx>
        <c:axId val="69918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11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CF8-23DF-4AB6-B1D2-F835235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F5C-6E24-4614-B8AC-0FDCAF5F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167-2164-42F1-B31E-EFA4344E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CF2-D49B-440F-A958-5CEFE372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E82-3626-4279-B821-1E8BCF0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63A-1D0B-419E-A173-3992E48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33E-865A-420D-B3C7-5212E233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825-CAFD-41BA-A371-FFE8502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469-B557-4BE7-81C2-28D7B369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BFB-F176-4281-BBCB-84D5E71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4E3-8365-4DF6-A951-8491641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51E-D47E-4B6B-95DA-5EE7E64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BD9A-DA32-42DE-9BD8-0645CC095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