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4028016"/>
        <c:axId val="7382531"/>
      </c:barChart>
      <c:catAx>
        <c:axId val="5402801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82531"/>
        <c:crosses val="autoZero"/>
        <c:auto val="1"/>
        <c:lblAlgn val="ctr"/>
        <c:lblOffset val="100"/>
        <c:noMultiLvlLbl val="0"/>
      </c:catAx>
      <c:valAx>
        <c:axId val="738253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02801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AFDB-FA7B-401E-8B8F-79082F769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69AE-91C2-4564-8CB3-24B48AD11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F274-E4D2-4558-A5FF-83A9883C8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57BB-2033-4FC1-982C-1D5D49852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8A3A-B68B-4F92-ABD9-AC7665FEF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4E3A-D98D-4C2E-932B-9B9CA6511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94CE-7701-4018-BE21-D9182348D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0B13-22FF-47C4-8FFC-2FEA8F420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F2F0-C9C4-4916-B83B-6D72781A3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C64D-8E02-4975-8003-5849BF889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9AEB-1CCF-45FB-A2F0-005C22BBF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571F-EDA6-4416-A96A-0B8EEE792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1A207A-55BF-46CB-A400-E230E367755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