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52512"/>
        <c:axId val="52743731"/>
      </c:barChart>
      <c:catAx>
        <c:axId val="31952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3731"/>
        <c:crosses val="autoZero"/>
        <c:auto val="1"/>
        <c:lblAlgn val="ctr"/>
        <c:lblOffset val="100"/>
        <c:noMultiLvlLbl val="0"/>
      </c:catAx>
      <c:valAx>
        <c:axId val="52743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52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8BF-5477-44D6-98C3-8B71E2EE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2F7-7BAC-41C9-959D-EC2DEF4A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8AC-9614-4CDB-AC8D-470BF4B3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1EC-50F8-45F2-89F1-121F6541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696-036B-45CB-A1F5-D9CDA61C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833-C54D-4889-92D7-26944678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E0E-759E-4C56-AC3B-10D43D12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F3B-A60E-40F1-B94B-E7942E33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828-9497-427C-9482-D37DFF0B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770-E0B6-40B1-805C-990FC7A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38E-3AEF-4689-8142-47D74623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A16-5549-4EF3-A60A-688ED531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8A063-EC7F-46DB-9E59-5CD3E1C1F5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