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685872"/>
        <c:axId val="35556106"/>
      </c:barChart>
      <c:catAx>
        <c:axId val="446858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556106"/>
        <c:crosses val="autoZero"/>
        <c:auto val="1"/>
        <c:lblAlgn val="ctr"/>
        <c:lblOffset val="100"/>
        <c:noMultiLvlLbl val="0"/>
      </c:catAx>
      <c:valAx>
        <c:axId val="355561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6858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B46C-2324-42EF-965D-EA3A507DD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C8B4-7B33-4512-93F6-9C9AB424D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1597-ECAD-4FA1-821C-2381C2769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D76D-59CB-419F-95EA-5626171D6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BA78-B38E-43A0-BD44-3562C9B74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068B-D78B-45C4-8F99-D7E98D205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5CAB-EAB2-4E76-A95D-17B6E9A52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72F1-8981-4001-A505-F12929051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2CF0-E58F-427D-B169-27CF225CF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C5E9-467F-4350-848F-CE91B092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6EF4-8303-4B07-A04F-29C1CA56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FAB4-E452-4138-A123-1D0182D4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860CB4-652B-461F-8158-6DCA04A1BF7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