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90567"/>
        <c:axId val="13486582"/>
      </c:barChart>
      <c:catAx>
        <c:axId val="66890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86582"/>
        <c:crosses val="autoZero"/>
        <c:auto val="1"/>
        <c:lblAlgn val="ctr"/>
        <c:lblOffset val="100"/>
        <c:noMultiLvlLbl val="0"/>
      </c:catAx>
      <c:valAx>
        <c:axId val="13486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90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375-4963-4904-9058-3E6ACF0C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B73-5D01-43AB-91FB-14409AB5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A9D-9AF3-4272-B51F-4B9EEF0F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AC5-015C-43F4-9749-E4222DF5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F39-6A34-4DCC-8938-D73EAC57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4D3-ED72-4A16-82A1-56DCEB7F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BE7-12EA-43E2-AFC5-250CA2B1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CE4-31B8-4A93-BAE2-D79EA5BC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AF1-E493-40B9-B489-DFC13CD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6B8-B944-4DC8-A84A-650D27E4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0E0-105F-4841-A646-C47CB5F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D23-5D42-4360-980F-19506C5D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730A0-1300-4B3D-A125-838A2F685C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