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92733"/>
        <c:axId val="44678366"/>
      </c:barChart>
      <c:catAx>
        <c:axId val="25692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78366"/>
        <c:crosses val="autoZero"/>
        <c:auto val="1"/>
        <c:lblAlgn val="ctr"/>
        <c:lblOffset val="100"/>
        <c:noMultiLvlLbl val="0"/>
      </c:catAx>
      <c:valAx>
        <c:axId val="44678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92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DA9-F967-43F8-A855-90A77AE4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F57-4C97-4DE4-B638-E4A5F596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0A8-82A6-4EC1-A50F-ADF670C6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CEA-A97E-439B-B142-07C88B8D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71B-3214-499E-A55C-D4938B7F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4BB-6BCB-45CC-933D-D1BF9A2B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082-36BA-410B-A97B-09D03DF9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FA5-82F8-4B6D-BFF9-DC65BD48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B86-3D60-4237-B0AD-ECAD3F06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239-53A5-41A6-9AFD-6EFE4AB5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038-C322-4D68-A6F1-901680E5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D4C-70BC-4038-9D53-48512753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D6026-7513-40BC-A9E8-21E46EA7CD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