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26239"/>
        <c:axId val="42554357"/>
      </c:barChart>
      <c:catAx>
        <c:axId val="55226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54357"/>
        <c:crosses val="autoZero"/>
        <c:auto val="1"/>
        <c:lblAlgn val="ctr"/>
        <c:lblOffset val="100"/>
        <c:noMultiLvlLbl val="0"/>
      </c:catAx>
      <c:valAx>
        <c:axId val="42554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26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5FD-2550-4A1E-A0F4-182C35A2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A28-CB6C-40ED-85DF-8208EA19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76E-DE34-4AEE-AF70-EC526553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0D6-5480-4DC9-B46A-BBBC085A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2C0-882D-4491-B1CF-D4D76815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C0C-B997-4D38-BA6C-C320D35D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20E-CBE9-4868-9774-35D0C5F8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BCB-73D0-4106-B790-05A7B75C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DC49-4A5D-4ED7-AC0C-2994A160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996-D409-4962-96F8-6932329B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333-B88D-461A-807C-A9883A4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F8B8-4159-4BC8-9192-1A91D803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EC6A1-A4F9-4492-932C-214D9C0A95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