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07890"/>
        <c:axId val="64739529"/>
      </c:barChart>
      <c:catAx>
        <c:axId val="17207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39529"/>
        <c:crosses val="autoZero"/>
        <c:auto val="1"/>
        <c:lblAlgn val="ctr"/>
        <c:lblOffset val="100"/>
        <c:noMultiLvlLbl val="0"/>
      </c:catAx>
      <c:valAx>
        <c:axId val="647395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07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942-5BDE-4950-BE1C-78FAECA6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39E-B9A3-4B77-9205-01670A6E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C1A-80F7-4949-8A66-772B4999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AD7-0B4F-4E0A-A312-D586BF52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C6D-A699-4DA8-A23F-6DCE18E9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C68-9DD1-4CA7-B57F-98A70024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8E9-79A2-4ECB-BD2E-2B83CE56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E92-B085-4121-867D-22282DA4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182-01F3-4D77-978F-5F14A8FF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123-A4C6-4715-BDA7-5BEE4E93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567-A635-4D97-A570-C1A4BC1F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243-1359-43D4-A517-DAA73DEC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AB5AD-787A-456E-B560-9C306EC82C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