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9507"/>
        <c:axId val="53013768"/>
      </c:barChart>
      <c:catAx>
        <c:axId val="8319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13768"/>
        <c:crosses val="autoZero"/>
        <c:auto val="1"/>
        <c:lblAlgn val="ctr"/>
        <c:lblOffset val="100"/>
        <c:noMultiLvlLbl val="0"/>
      </c:catAx>
      <c:valAx>
        <c:axId val="53013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9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167-6B3B-4EAF-A82A-0FBEE654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BADE-1DE6-4648-B998-AA866E1D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3DF-2739-47A2-93E4-BD45F412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ED6-628C-4E73-A038-A1565AAE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710D-BF70-4112-8A18-AE001DE7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3175-2AEF-4BD1-AEE0-566D7BAC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A507-7099-44D2-AAE1-13593B64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68D-376E-400D-84B8-C8D728AF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83E-27DB-4D99-9C97-92847140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94A-F1DA-4B22-BF05-97850E49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F2C0-858B-4D4F-8709-5378E6EA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190-CF4D-4AB4-9442-139777D0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CC3F1-797F-49BE-A6F8-E604C08A60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