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324868"/>
        <c:axId val="41701559"/>
      </c:barChart>
      <c:catAx>
        <c:axId val="90324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01559"/>
        <c:crosses val="autoZero"/>
        <c:auto val="1"/>
        <c:lblAlgn val="ctr"/>
        <c:lblOffset val="100"/>
        <c:noMultiLvlLbl val="0"/>
      </c:catAx>
      <c:valAx>
        <c:axId val="41701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24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9A1-04BA-4518-9D81-C56420F5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704E-124D-4185-89DA-3FF0D96B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2B1-06A5-4C45-8F65-10FEB219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338-B0E0-4BA3-B08A-321F4807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BD0-C17D-425B-8C80-7E0AB2B2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4FAE-4DEF-413A-8907-74EDC3BE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BC4-B7B1-47D8-BAA4-45D0620E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64D8-DA99-4136-B71F-F157F488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111-8328-4F59-91D4-8C014BE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FC08-F109-472B-92F1-62D993D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8AD4-BA8F-4D29-AEDF-A8A8ED01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08AF-AF59-4BC8-B998-4F5DD5FE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EA43D-6B9A-488D-9DC3-D9C31C6967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