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06970"/>
        <c:axId val="45108526"/>
      </c:barChart>
      <c:catAx>
        <c:axId val="57206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08526"/>
        <c:crosses val="autoZero"/>
        <c:auto val="1"/>
        <c:lblAlgn val="ctr"/>
        <c:lblOffset val="100"/>
        <c:noMultiLvlLbl val="0"/>
      </c:catAx>
      <c:valAx>
        <c:axId val="45108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06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36D1-8228-499A-B2EA-9600A838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FF5-3822-4A8A-89F1-73002466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7A2-02C4-4E9F-8FB0-32F1E690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D23-AF22-43AC-BF63-9FFE131E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9DA-A712-4086-8A28-AB65C841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432-3B77-410C-8E92-8C5BAA9F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97B-6EC9-4839-B25B-8C884D28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F16-4762-4689-94C5-B5E225E1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062-2579-4DC6-B156-EFE9C3C4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459-53E2-49F5-A6B3-149C95F5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C9F-D878-4AD5-99BB-55C71E82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1D2-5C48-45E3-BEC8-79FAB84F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3AE50-CCC3-4E23-9EBB-198AD95595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