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7446139"/>
        <c:axId val="55735587"/>
      </c:barChart>
      <c:catAx>
        <c:axId val="9744613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735587"/>
        <c:crosses val="autoZero"/>
        <c:auto val="1"/>
        <c:lblAlgn val="ctr"/>
        <c:lblOffset val="100"/>
        <c:noMultiLvlLbl val="0"/>
      </c:catAx>
      <c:valAx>
        <c:axId val="5573558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44613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35658-6C2D-4153-88DA-42F814EAD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F62D9-A654-483E-9A91-9916B8ADE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1EB37-4B18-440C-A183-DCF0A4354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553AC-6855-48E1-89C3-F93DB215C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2CF19-15B9-4519-AB53-2CFC8C7B8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BEAFC-DC86-4027-9D21-291512EF5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B3676-9215-405A-91CB-8FAAAB2DC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7DD36-808D-4DE2-B341-8BA440C10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2E4F2-CDB5-4AF2-800E-FC1F541E3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26542-C07C-4B5E-9F7E-F1DC55D03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56A55-9F96-4F95-A4E8-47A4504F0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DF517-407C-4FFE-8BCA-2A2E17B4E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A4086D-CCC1-413D-924A-9367B93A11F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