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81604"/>
        <c:axId val="94771374"/>
      </c:barChart>
      <c:catAx>
        <c:axId val="54981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71374"/>
        <c:crosses val="autoZero"/>
        <c:auto val="1"/>
        <c:lblAlgn val="ctr"/>
        <c:lblOffset val="100"/>
        <c:noMultiLvlLbl val="0"/>
      </c:catAx>
      <c:valAx>
        <c:axId val="94771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81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32C-61DF-4EB0-B941-0644ECFC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E71-318E-4714-A600-9E56887E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74C-E488-40B7-B2A5-58D18999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B0C-63C4-4DE4-8A5A-808320A7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FB5-68FD-462D-AB6F-F46B610D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CC2-1B12-4147-8E9B-D03380D6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52A-1CA3-4353-86E9-1D3AC155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AA0-1475-454A-9559-690428BF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155-54B7-4411-8830-83208A48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A32-6363-4707-9547-C4643C1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5B1-0C5D-4562-A22C-261AB2A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E6D-040E-4DED-A968-E156C091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B8448-DBFD-49DE-8319-52A52378FF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