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6784447"/>
        <c:axId val="12596258"/>
      </c:barChart>
      <c:catAx>
        <c:axId val="2678444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596258"/>
        <c:crosses val="autoZero"/>
        <c:auto val="1"/>
        <c:lblAlgn val="ctr"/>
        <c:lblOffset val="100"/>
        <c:noMultiLvlLbl val="0"/>
      </c:catAx>
      <c:valAx>
        <c:axId val="1259625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78444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DF86-7C3F-49D9-B587-535B89817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78DA-9343-4FC0-991D-0B564E424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332E-763C-4C81-A17B-7AFD30BD6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770D-8A7C-4D07-B303-1011CC4A1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E016-2348-4EC8-8AA1-4CA375BF5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CD52-5744-4E61-B3B7-6E610B3FA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84C4-C899-4DBC-9C73-139D56B1D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9124-E851-4B48-B4A0-213068972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87BC-07D0-465F-A2EF-C835F1098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1EF4-70F3-4B1A-A80D-2606C762E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A044-FF6F-456F-818F-50926AC22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D875-6906-4F36-86E2-C59079DF4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90574F-DF60-4667-9C17-2D4440D6EDE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