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83390"/>
        <c:axId val="86055425"/>
      </c:barChart>
      <c:catAx>
        <c:axId val="26483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55425"/>
        <c:crosses val="autoZero"/>
        <c:auto val="1"/>
        <c:lblAlgn val="ctr"/>
        <c:lblOffset val="100"/>
        <c:noMultiLvlLbl val="0"/>
      </c:catAx>
      <c:valAx>
        <c:axId val="86055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83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A9A-4FF3-4BA3-923A-04909861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E9B-A515-4DD0-8E75-A065D2AC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58D-3CD8-41DF-B34A-B4DECB4D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106-E5C0-4FE3-AF83-25EA12D5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E20-8A64-46F9-9A88-8743D2DB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9D3-6426-44D1-976A-AAC8358A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903-2932-4ED5-9951-1500A175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2AC-2264-422F-922F-A64518F3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120-F66A-4DFE-99AA-4FED6FB1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F42-DFF3-4D2E-A0D4-5968AF9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C09-E463-4728-AD71-28AE5FB1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B56-4C1C-425F-BC69-02E3ED3C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8EF20-EE9C-465E-BAEA-4EE4B74EFB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