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807537"/>
        <c:axId val="93212228"/>
      </c:barChart>
      <c:catAx>
        <c:axId val="268075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212228"/>
        <c:crosses val="autoZero"/>
        <c:auto val="1"/>
        <c:lblAlgn val="ctr"/>
        <c:lblOffset val="100"/>
        <c:noMultiLvlLbl val="0"/>
      </c:catAx>
      <c:valAx>
        <c:axId val="932122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8075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A9FF-8B6D-4A8E-8DBA-2D2B1E979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1B1D-C3BC-45A4-BD8C-53093EAD8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A439-EACD-430D-A538-FBFEDFABB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39E6-BB01-4660-916C-45B3FC75E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DFB1-B249-4B47-ABDD-DDA379EE5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D377-F91B-4AE5-A4C3-9B96FA257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A654-19AD-4926-B9EC-ACAC21BC6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DA4B-D996-4D9B-AF95-218B53E9C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89DA-316F-4B2E-8B11-A19AF4BBF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6407-69DD-4813-8DF1-B9316834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F625-ED57-4B5A-BF5E-16C0B6BE4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CDD3-6E38-4772-A04A-0CF09DEF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5EBE3A-D8D7-4F47-89CD-BA5C8D6CE1C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