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69547"/>
        <c:axId val="75482210"/>
      </c:barChart>
      <c:catAx>
        <c:axId val="76169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82210"/>
        <c:crosses val="autoZero"/>
        <c:auto val="1"/>
        <c:lblAlgn val="ctr"/>
        <c:lblOffset val="100"/>
        <c:noMultiLvlLbl val="0"/>
      </c:catAx>
      <c:valAx>
        <c:axId val="75482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69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AC8-36A7-4021-A62B-9A04A615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B92-98EC-4DA5-9918-E51EDD18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90A-D06F-4D01-896D-EE16AFE1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FEB-2458-4C64-A995-EC2876F4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65D-18D8-4B8D-8DB2-D0D84565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2B9-E266-4113-A6E7-2DE2301B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38F-F5EB-4D76-98B2-90A7FAC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A2C-D940-4935-B3DA-3C137C10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27C-C5B8-459F-BCB6-FB92A7C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67F-9D53-4F55-938A-7ACFF6C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97C-A3D6-4B4E-81D2-6334BC6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C50-02AB-45C3-9729-B54F5C6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9BD98-7E30-4EFE-BC3A-D1B4B7CFE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