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41870"/>
        <c:axId val="44051214"/>
      </c:barChart>
      <c:catAx>
        <c:axId val="21418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051214"/>
        <c:crosses val="autoZero"/>
        <c:auto val="1"/>
        <c:lblAlgn val="ctr"/>
        <c:lblOffset val="100"/>
        <c:noMultiLvlLbl val="0"/>
      </c:catAx>
      <c:valAx>
        <c:axId val="440512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418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0DE6-66EA-42C8-B21F-1B5C0BE9B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AA91-CF92-4E58-8269-EA8A6E45C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2B28-43F2-4EA0-A2A9-05C398F16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A921-C9F5-4BE3-9673-9D1548FBC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646F-FE64-48AE-A343-8B80F287D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E9A8-4371-4F5A-95C1-AB3081C3F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2692-CE1B-492A-8D0D-8BDC90087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4232-D302-467F-A90D-825537E76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9623-A1F1-44F0-B49A-5E15DA5F7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1C8D-2B77-4E85-815C-F628FDF7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85B3-3F86-4F00-9582-C8A24BFD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5FBC-2D28-420B-A730-7727F610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2227E8-DE88-480B-975B-61387B911D8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