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0080848"/>
        <c:axId val="64964463"/>
      </c:barChart>
      <c:catAx>
        <c:axId val="6008084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964463"/>
        <c:crosses val="autoZero"/>
        <c:auto val="1"/>
        <c:lblAlgn val="ctr"/>
        <c:lblOffset val="100"/>
        <c:noMultiLvlLbl val="0"/>
      </c:catAx>
      <c:valAx>
        <c:axId val="6496446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08084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6DE55-0AB1-4F5A-B2D8-B4F27D645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A7F48-2CE9-4BA9-8307-B6405CF01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95B32-BBF3-432E-9CF1-BC84A9DCC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83C70-F6C6-455E-AE70-BD443BA8C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D899F-A768-4EFA-AB4C-3DF6E1219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5FF8A-6C76-477F-8EAB-D9D4D0A7C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5BA87-37E1-42AD-B2CA-AED264FC0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6319B-882B-4D45-AFF0-DF10A6839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F46C9-FA6F-4F68-99B7-51F6462E5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AB92B-B8F9-4EF9-BEA3-987FD1397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97B58-6D48-4E7D-84EE-FC8F24DFC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D768C-E80E-4419-81F9-AE3EBC3DB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C0BE61-884C-4095-B8A3-02A3D625FE1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