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08515"/>
        <c:axId val="59272194"/>
      </c:barChart>
      <c:catAx>
        <c:axId val="69608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2194"/>
        <c:crosses val="autoZero"/>
        <c:auto val="1"/>
        <c:lblAlgn val="ctr"/>
        <c:lblOffset val="100"/>
        <c:noMultiLvlLbl val="0"/>
      </c:catAx>
      <c:valAx>
        <c:axId val="59272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08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A92-F7EE-40A7-931C-982D6729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F46-33E6-454D-AA01-6A42D2E1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579-BF1A-4DE2-8622-5C555D94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4F7-99C4-4AB9-BA54-EB3A503E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9D9-F464-490D-B206-B9F7FAB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1B6-8AE1-45D6-ABDD-F18390A9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143-62D3-40C1-B87E-D9A0CD21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38F-D939-4401-8B5B-96EB6F14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2DB-D1BF-4627-AE6C-4861836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F74-7F22-4679-BC71-831FA1C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A01-8EAA-4450-8693-3008DAC6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5B0-9242-4BEF-B2A2-9298119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955B1-DF6E-497E-AABD-BBB827D78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