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54742"/>
        <c:axId val="60130760"/>
      </c:barChart>
      <c:catAx>
        <c:axId val="570547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30760"/>
        <c:crosses val="autoZero"/>
        <c:auto val="1"/>
        <c:lblAlgn val="ctr"/>
        <c:lblOffset val="100"/>
        <c:noMultiLvlLbl val="0"/>
      </c:catAx>
      <c:valAx>
        <c:axId val="60130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547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737-84A4-453D-B537-025ECBAB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560-EE96-46FC-A9EB-EC98403D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B1D5-EDAE-4D56-9C96-3C2497C9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212-2E11-4359-A986-B4D29A3A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8D7-C2AC-40A4-8965-DACE5684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B14-9A8D-4EF6-BF55-8D65AEB8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CFBB-72B5-4498-8E17-50B1E879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323C-7432-4337-AFC7-B30DF8FA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771-9826-460C-B913-1B324C6A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AC48-DD2B-483A-965B-EFAEEB62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628A-27C3-489B-8E24-9451C557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F0B-FFE6-4D18-B824-418294DF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3F520-7DEE-43F9-A122-85074C1D5C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