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19041"/>
        <c:axId val="84459823"/>
      </c:barChart>
      <c:catAx>
        <c:axId val="35119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9823"/>
        <c:crosses val="autoZero"/>
        <c:auto val="1"/>
        <c:lblAlgn val="ctr"/>
        <c:lblOffset val="100"/>
        <c:noMultiLvlLbl val="0"/>
      </c:catAx>
      <c:valAx>
        <c:axId val="84459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19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AFA-F68E-4B83-8E11-0BEBD996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C2D-81B8-48AB-A187-18A45BA4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C71-D297-498D-83B1-5777942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D3E-EBD9-45D9-9A27-A05CD07A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385-B36B-435C-B0A9-BF0D7BC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A5F-C0CC-48A6-B77F-BBB81ADF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977-EBF6-4976-952C-E2B6946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C50-8174-4E6F-9429-0D7556A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1D3-2BE4-43C3-B56D-1A6FCC7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E22-EF80-4B69-A9CD-DE54DFF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543-BC81-418E-8953-0F4EE85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D2-AAD3-4311-AF68-6748DFB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84BEE-C511-4BB6-B4DB-26394C748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