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3891"/>
        <c:axId val="93083572"/>
      </c:barChart>
      <c:catAx>
        <c:axId val="8563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83572"/>
        <c:crosses val="autoZero"/>
        <c:auto val="1"/>
        <c:lblAlgn val="ctr"/>
        <c:lblOffset val="100"/>
        <c:noMultiLvlLbl val="0"/>
      </c:catAx>
      <c:valAx>
        <c:axId val="93083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3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4DF-CE3F-4BDC-B939-12091483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44A-2E73-4636-925A-9B8BF5B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086-1061-4715-AD63-86AC2F09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B53-08B7-46A6-AE53-F6F34EB1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D47-1F5F-4809-B95C-556DF3A6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307-3A24-4092-9C47-FCC8D949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914-DD72-4910-A1AD-8D7F96F0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2EE-A558-4CC6-A8B1-A102462E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D8A-CC31-4EC7-B214-D704E09D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909-976B-487A-BD56-EB2350DC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5BD-4EA6-4BA9-A69B-FAD85A39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AA0-6903-44ED-A3F9-CE72750D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64B90-43BB-4256-A46C-EF98E3F828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