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5655921"/>
        <c:axId val="49391548"/>
      </c:barChart>
      <c:catAx>
        <c:axId val="9565592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391548"/>
        <c:crosses val="autoZero"/>
        <c:auto val="1"/>
        <c:lblAlgn val="ctr"/>
        <c:lblOffset val="100"/>
        <c:noMultiLvlLbl val="0"/>
      </c:catAx>
      <c:valAx>
        <c:axId val="4939154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65592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7C696-F87D-48DD-8CAD-5B87ADC83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EADBB-0F03-4614-B0E4-F1CDE9860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50223-1F0C-4232-917B-D9CA060CF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BFF90-46B3-4A54-90CE-EB4E15CF4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C733D-6762-4FB4-9573-E4BC02B8B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BD67A-F0E9-484A-900B-310FA1DD6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5DAC8-4874-484B-9850-CD341A616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9204A-6CE4-4709-9D13-76E55879C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69F78-733F-424D-A2B3-EA441192B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8D1E1-2893-4BB6-B890-00E46456D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2BD8E-0A15-4908-9E0B-70A057498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80B0B-F68C-4304-97E6-97A6235C6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22B43A-202C-42BB-B9CF-2DB77B2227F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