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49778"/>
        <c:axId val="69922575"/>
      </c:barChart>
      <c:catAx>
        <c:axId val="81849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22575"/>
        <c:crosses val="autoZero"/>
        <c:auto val="1"/>
        <c:lblAlgn val="ctr"/>
        <c:lblOffset val="100"/>
        <c:noMultiLvlLbl val="0"/>
      </c:catAx>
      <c:valAx>
        <c:axId val="69922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49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BBB-7291-4377-9387-EDDE4544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7B3-421C-4A02-802B-FBB4335C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C377-1843-4E2F-B17E-BCFBFCD7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7A6-1BD8-4EB0-9C01-D839ED4D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32E-1D75-498A-A788-4ED918E9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2D74-E68F-4517-A8BE-2BEC1917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4D9-64AB-40EA-85E1-D605C983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088-2AFD-446E-8DD9-03483610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23D-9D48-458E-9502-C7B375FC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073-9188-460E-B18E-FA064673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D8E7-BAC5-4486-B3D3-43534FC5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15E-49CF-4957-9F3A-8E741DCD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61A8C-24F6-4FC9-84B3-26B5D17073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