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36033"/>
        <c:axId val="80519922"/>
      </c:barChart>
      <c:catAx>
        <c:axId val="38136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19922"/>
        <c:crosses val="autoZero"/>
        <c:auto val="1"/>
        <c:lblAlgn val="ctr"/>
        <c:lblOffset val="100"/>
        <c:noMultiLvlLbl val="0"/>
      </c:catAx>
      <c:valAx>
        <c:axId val="80519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36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3B0-E171-49D4-8F8D-045DA14C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42F-6D3E-4335-A64C-6AD71DD4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10C-F93F-4B03-BCC8-F6C7CED1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DF6-C88F-4959-86CF-E0CBDD1A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8CF-6377-4B22-B496-A6F4DECC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823-96E1-4734-AC8C-F561B9E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A1A-1778-4B80-AF79-DC396ACB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840-3D69-48C2-B349-7E86F033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867-D18C-48F7-B647-3BFF1888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6AD-E92C-4F5A-BD82-F1D90F80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BB9-DA26-4641-B8A7-B3946B57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223-697A-4948-BBA5-A5685CDF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2BA7B-6581-46E2-ADD0-21B478D557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