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83664"/>
        <c:axId val="74119277"/>
      </c:barChart>
      <c:catAx>
        <c:axId val="99983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19277"/>
        <c:crosses val="autoZero"/>
        <c:auto val="1"/>
        <c:lblAlgn val="ctr"/>
        <c:lblOffset val="100"/>
        <c:noMultiLvlLbl val="0"/>
      </c:catAx>
      <c:valAx>
        <c:axId val="74119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83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B94-BFDD-4CC0-BDE6-AE3565A3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C49-8087-446A-B41C-7BBC78AB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077-A101-49AF-A8D5-E3447D17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F07-1CD2-4F65-8833-D019F5D4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8FE-BF44-439D-A043-4342A13B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EA5-0256-4F18-AD55-C195B77B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FDA-ABEC-4950-91A7-6B40654B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F1B-9065-405E-A8F5-43BD4731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06D-43CA-40CE-B6BC-E78D7A4C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660-39CD-40F2-BE7A-FA91A9D9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A82-EA2E-4E4C-A456-BA04D906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441-F5FC-446C-B334-CE7B37C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47498-87FB-474F-B187-C4DD327251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