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982936"/>
        <c:axId val="68853059"/>
      </c:barChart>
      <c:catAx>
        <c:axId val="309829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53059"/>
        <c:crosses val="autoZero"/>
        <c:auto val="1"/>
        <c:lblAlgn val="ctr"/>
        <c:lblOffset val="100"/>
        <c:noMultiLvlLbl val="0"/>
      </c:catAx>
      <c:valAx>
        <c:axId val="688530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829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5332-3572-4FDF-A600-7200C008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4BCF-1640-43D5-9AB1-C6DF302C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8E8C-4DA6-43E1-8AAA-597EBF37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F1D9-7C0D-48B9-8269-7A3F33FF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5417-9296-4117-A6A7-27462945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3310-2EEA-4BB6-B25F-5D965830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47E0-00DC-4733-A0CD-ABD449BB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6333-46D6-491B-A9DC-F754E4E4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BA37-2B98-461A-836F-8F06E583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D7B9-D4B7-4CF1-BB99-18819FA6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B13E-39F6-4487-AB30-78A1F0B9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7A84-2365-4808-88AB-E7237881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8052D-726B-4B38-B453-2CBA6E5A32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