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1734"/>
        <c:axId val="59275518"/>
      </c:barChart>
      <c:catAx>
        <c:axId val="9371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5518"/>
        <c:crosses val="autoZero"/>
        <c:auto val="1"/>
        <c:lblAlgn val="ctr"/>
        <c:lblOffset val="100"/>
        <c:noMultiLvlLbl val="0"/>
      </c:catAx>
      <c:valAx>
        <c:axId val="59275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1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FFC-6500-45B0-A654-C17D3065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FA2-5FAB-47EA-AA03-7BC689CF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C4D-20EF-4694-BCD2-F466E6DB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E5C-36E5-4F1A-BF77-91CE026B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B47-F1A8-43A9-B6E6-4415FE57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2E5-32E4-41C3-B908-284EA07F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008-ED68-4BDD-B25B-EFB0BA92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480-E6D3-4756-9A76-37942A3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7C2-B7A4-4C54-A86F-04DF4CF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FE2-BF66-4DB5-8618-F979032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A2D-7BEF-4565-9291-9AD46C1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760-27F2-4FBE-BA1E-6ADCD37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D592B-8242-4681-93A4-90F5D9278C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