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29972"/>
        <c:axId val="16706294"/>
      </c:barChart>
      <c:catAx>
        <c:axId val="84429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06294"/>
        <c:crosses val="autoZero"/>
        <c:auto val="1"/>
        <c:lblAlgn val="ctr"/>
        <c:lblOffset val="100"/>
        <c:noMultiLvlLbl val="0"/>
      </c:catAx>
      <c:valAx>
        <c:axId val="16706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9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21E-FCFD-4DFD-A025-4B05D05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F6D-A5C9-4B87-AB46-C996137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501-D3BD-4C3F-9857-F480DE42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120-2E91-4386-B391-CADC3E8D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062-0942-452B-A178-423E380A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33B-00C9-4D6C-8191-0901F9EE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845-4518-44DD-BEDA-5C4C393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25D-006A-4EF5-90D5-6E9F822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543-D167-4C21-9500-AF1CE04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ABF-D066-429E-B766-563C327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BE5-FDF9-4A34-BCF5-0F7C3DF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0C3-1FF0-4510-B7B8-285E5A6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AAE18-61BA-4295-A093-1DADF6CB3F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