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609"/>
        <c:axId val="35115392"/>
      </c:barChart>
      <c:catAx>
        <c:axId val="996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15392"/>
        <c:crosses val="autoZero"/>
        <c:auto val="1"/>
        <c:lblAlgn val="ctr"/>
        <c:lblOffset val="100"/>
        <c:noMultiLvlLbl val="0"/>
      </c:catAx>
      <c:valAx>
        <c:axId val="35115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499-DF0B-4C93-A79F-E52909E4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65D-A87B-4724-86DD-06E03FD8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9CF-B5AF-4F7F-AE44-E0E39A29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F5D-8D7F-4952-A2AA-1F974854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37D-A848-4469-9FE4-441F3DE1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07A-2F2C-4E0C-B664-B3EC7F49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8E3-81AA-4B1A-9CEA-1B1D4B93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A2D-6516-4291-9A91-7BC9E071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CEE-2894-47DD-822C-125BD400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17A-C3D6-458E-979F-30714476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4C5-1F9A-4B65-8AA3-9C437E9F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AC1-356A-4152-A60F-E27429F9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04614-F689-4A13-980B-7D3D23D3AB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