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645009"/>
        <c:axId val="57641052"/>
      </c:barChart>
      <c:catAx>
        <c:axId val="276450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41052"/>
        <c:crosses val="autoZero"/>
        <c:auto val="1"/>
        <c:lblAlgn val="ctr"/>
        <c:lblOffset val="100"/>
        <c:noMultiLvlLbl val="0"/>
      </c:catAx>
      <c:valAx>
        <c:axId val="576410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450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A9DA-4B8C-40EB-80FD-DB828166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A4DD-3889-4E0D-BECB-90E6D1B9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6D92-F91A-4CD7-9EBB-453023B4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DC63-898E-4689-A5B6-CEDA699A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D85B-DE2D-45DA-8134-EDA2248E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CD6F-39A8-4BD9-9EFF-23EC7A87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1956-AC7B-4BA8-937D-6E1E2091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6B0E-0B79-41B5-AD60-CCE88C99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2BC7-2BBF-44AB-BBBB-482C335B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2174-97FD-4A9D-B799-C593B18E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61CE-898B-4888-B0F8-453CC5BD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3BDC-277C-45D2-9146-820DF2C2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2E921-718E-4DFD-B45D-7BFBB0FBC1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